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571840" y="114480"/>
            <a:ext cx="5003640" cy="74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8876880" y="7061040"/>
            <a:ext cx="1257480" cy="50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2006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ademic Press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257480" y="174600"/>
            <a:ext cx="7645320" cy="725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