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600200" y="3240"/>
            <a:ext cx="6946920" cy="759924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2320" y="1600200"/>
            <a:ext cx="10113840" cy="4406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600" y="1638360"/>
            <a:ext cx="1013472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793960" y="82440"/>
            <a:ext cx="4559400" cy="742968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137040" y="23760"/>
            <a:ext cx="3670200" cy="75708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