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6200" y="317520"/>
            <a:ext cx="9945720" cy="6972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560" y="1282680"/>
            <a:ext cx="10096200" cy="50436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560" y="1282680"/>
            <a:ext cx="10096200" cy="50436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90400" y="380880"/>
            <a:ext cx="8953560" cy="684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477360" y="3322440"/>
            <a:ext cx="9199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Figure 13: I do not have permission to distribu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his cartoon from New Yorker magazin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05080" y="46080"/>
            <a:ext cx="3727440" cy="75182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1920" y="1917720"/>
            <a:ext cx="10034640" cy="378468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692440" y="246240"/>
            <a:ext cx="4457520" cy="71262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11240" y="1054080"/>
            <a:ext cx="993600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4280" y="520560"/>
            <a:ext cx="10045800" cy="65660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703600" y="36360"/>
            <a:ext cx="4740120" cy="75456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14480" y="325440"/>
            <a:ext cx="9918360" cy="6964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146240" y="393840"/>
            <a:ext cx="7866000" cy="6819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654120" y="279360"/>
            <a:ext cx="8826480" cy="7050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06440" y="644400"/>
            <a:ext cx="9334440" cy="63151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9996480" cy="593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228680" y="31680"/>
            <a:ext cx="7685280" cy="75312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1160" y="1295280"/>
            <a:ext cx="10123560" cy="5031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9080" y="1282680"/>
            <a:ext cx="10109160" cy="50418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