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374920" y="50760"/>
            <a:ext cx="5398920" cy="75186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54000" y="965160"/>
            <a:ext cx="10037880" cy="567684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336600" y="279360"/>
            <a:ext cx="9842400" cy="706284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698400" y="547560"/>
            <a:ext cx="8756640" cy="652788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912960" y="177840"/>
            <a:ext cx="8332560" cy="72644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831960" y="82440"/>
            <a:ext cx="8475480" cy="744228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320840" y="201600"/>
            <a:ext cx="7518240" cy="720252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30320" y="165240"/>
            <a:ext cx="9885240" cy="727704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2487600" y="50760"/>
            <a:ext cx="5172120" cy="750564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854360" y="114480"/>
            <a:ext cx="6454440" cy="73911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143000" y="130320"/>
            <a:ext cx="7873920" cy="73450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295280" y="158760"/>
            <a:ext cx="7559640" cy="72770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434960" y="55440"/>
            <a:ext cx="7277400" cy="750744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346040" y="63360"/>
            <a:ext cx="7471080" cy="749304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17360" y="1117440"/>
            <a:ext cx="9910800" cy="53722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596880" y="433440"/>
            <a:ext cx="8966160" cy="67579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486080" y="74520"/>
            <a:ext cx="7175160" cy="745668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92160" y="927000"/>
            <a:ext cx="9961560" cy="57531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