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27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77000"/>
          </a:bodyPr>
          <a:p>
            <a:pPr marL="462960" indent="-2966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720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1080" indent="-2966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65040" indent="-2966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2928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2928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2928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0000"/>
          </a:bodyPr>
          <a:p>
            <a:pPr marL="541080" indent="-34668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849960" indent="-3470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58480" indent="-34668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478520" indent="-34668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787400" indent="-3470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787400" indent="-3470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787400" indent="-3470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070680" y="2158920"/>
            <a:ext cx="309888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66000"/>
          </a:bodyPr>
          <a:p>
            <a:pPr marL="396720" indent="-25416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23160" indent="-25452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849600" indent="-25416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084320" indent="-25416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310760" indent="-25452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310760" indent="-25452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310760" indent="-25452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77000"/>
          </a:bodyPr>
          <a:p>
            <a:pPr marL="462960" indent="-2966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720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1080" indent="-2966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65040" indent="-2966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2928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2928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2928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1000"/>
          </a:bodyPr>
          <a:p>
            <a:pPr marL="600480" indent="-40392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12960" indent="-40428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24720" indent="-40392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548360" indent="-40392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860480" indent="-40428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860480" indent="-40428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860480" indent="-40428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9000"/>
          </a:bodyPr>
          <a:p>
            <a:pPr marL="587520" indent="-39528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92800" indent="-39564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97720" indent="-39528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514520" indent="-39528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819800" indent="-39564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819800" indent="-39564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819800" indent="-39564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495000" y="3746160"/>
            <a:ext cx="458460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3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495000" y="1104840"/>
            <a:ext cx="4584600" cy="257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95000" y="3746160"/>
            <a:ext cx="458460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3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495000" y="1104840"/>
            <a:ext cx="4584600" cy="257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330120" y="355680"/>
            <a:ext cx="9487080" cy="6899040"/>
          </a:xfrm>
          <a:prstGeom prst="rect">
            <a:avLst/>
          </a:prstGeom>
          <a:ln w="0">
            <a:noFill/>
          </a:ln>
        </p:spPr>
      </p:pic>
      <p:sp>
        <p:nvSpPr>
          <p:cNvPr id="526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50760" y="927000"/>
            <a:ext cx="10045800" cy="5767560"/>
          </a:xfrm>
          <a:prstGeom prst="rect">
            <a:avLst/>
          </a:prstGeom>
          <a:ln w="0">
            <a:noFill/>
          </a:ln>
        </p:spPr>
      </p:pic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76320" y="150840"/>
            <a:ext cx="10007640" cy="7316640"/>
          </a:xfrm>
          <a:prstGeom prst="rect">
            <a:avLst/>
          </a:prstGeom>
          <a:ln w="0">
            <a:noFill/>
          </a:ln>
        </p:spPr>
      </p:pic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2360520" y="74520"/>
            <a:ext cx="5424480" cy="746928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216000" y="38160"/>
            <a:ext cx="9715320" cy="754380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1066680" y="-133200"/>
            <a:ext cx="8016840" cy="787392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2933640" y="82440"/>
            <a:ext cx="4294080" cy="742968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1003320" y="79200"/>
            <a:ext cx="8153280" cy="745992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168120" y="304920"/>
            <a:ext cx="9809280" cy="699768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76320" y="838080"/>
            <a:ext cx="10007640" cy="5931000"/>
          </a:xfrm>
          <a:prstGeom prst="rect">
            <a:avLst/>
          </a:prstGeom>
          <a:ln w="0">
            <a:noFill/>
          </a:ln>
        </p:spPr>
      </p:pic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38160" y="911160"/>
            <a:ext cx="10071000" cy="578160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