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990360" y="43884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990360" y="1282320"/>
            <a:ext cx="8178840" cy="119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518112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990360" y="43884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518112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375588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52140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99036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375588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652140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18112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990360" y="3924000"/>
            <a:ext cx="8178840" cy="88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990360" y="1282320"/>
            <a:ext cx="8178840" cy="119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518112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990360" y="43884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518112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75588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52140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99036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75588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52140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75588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52140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99036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75588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52140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990360" y="3924000"/>
            <a:ext cx="8178840" cy="88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990360" y="1282320"/>
            <a:ext cx="8178840" cy="119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518112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990360" y="43884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518112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75588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52140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99036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75588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652140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990360" y="3924000"/>
            <a:ext cx="8178840" cy="88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990360" y="1282320"/>
            <a:ext cx="8178840" cy="119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990360" y="3924000"/>
            <a:ext cx="8178840" cy="88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518112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990360" y="43884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518112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375588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52140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99036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375588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652140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subTitle"/>
          </p:nvPr>
        </p:nvSpPr>
        <p:spPr>
          <a:xfrm>
            <a:off x="990360" y="3924000"/>
            <a:ext cx="8178840" cy="88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ubTitle"/>
          </p:nvPr>
        </p:nvSpPr>
        <p:spPr>
          <a:xfrm>
            <a:off x="990360" y="1282320"/>
            <a:ext cx="8178840" cy="119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18112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990360" y="43884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518112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75588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52140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99036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5" name="PlaceHolder 6"/>
          <p:cNvSpPr>
            <a:spLocks noGrp="1"/>
          </p:cNvSpPr>
          <p:nvPr>
            <p:ph/>
          </p:nvPr>
        </p:nvSpPr>
        <p:spPr>
          <a:xfrm>
            <a:off x="375588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6" name="PlaceHolder 7"/>
          <p:cNvSpPr>
            <a:spLocks noGrp="1"/>
          </p:cNvSpPr>
          <p:nvPr>
            <p:ph/>
          </p:nvPr>
        </p:nvSpPr>
        <p:spPr>
          <a:xfrm>
            <a:off x="652140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subTitle"/>
          </p:nvPr>
        </p:nvSpPr>
        <p:spPr>
          <a:xfrm>
            <a:off x="990360" y="3924000"/>
            <a:ext cx="8178840" cy="88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ubTitle"/>
          </p:nvPr>
        </p:nvSpPr>
        <p:spPr>
          <a:xfrm>
            <a:off x="990360" y="1282320"/>
            <a:ext cx="8178840" cy="119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518112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990360" y="43884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18112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375588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652140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99036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3" name="PlaceHolder 6"/>
          <p:cNvSpPr>
            <a:spLocks noGrp="1"/>
          </p:cNvSpPr>
          <p:nvPr>
            <p:ph/>
          </p:nvPr>
        </p:nvSpPr>
        <p:spPr>
          <a:xfrm>
            <a:off x="375588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4" name="PlaceHolder 7"/>
          <p:cNvSpPr>
            <a:spLocks noGrp="1"/>
          </p:cNvSpPr>
          <p:nvPr>
            <p:ph/>
          </p:nvPr>
        </p:nvSpPr>
        <p:spPr>
          <a:xfrm>
            <a:off x="652140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990360" y="1282320"/>
            <a:ext cx="8178840" cy="119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990360" y="3924000"/>
            <a:ext cx="8178840" cy="88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18112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990360" y="43884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518112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75588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52140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99036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75588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52140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990360" y="3924000"/>
            <a:ext cx="8178840" cy="88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990360" y="1282320"/>
            <a:ext cx="8178840" cy="119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18112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990360" y="43884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518112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75588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52140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99036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75588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52140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990360" y="3924000"/>
            <a:ext cx="8178840" cy="88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990360" y="1282320"/>
            <a:ext cx="8178840" cy="119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18112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990360" y="43884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518112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75588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52140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99036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75588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52140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990360" y="3924000"/>
            <a:ext cx="8178840" cy="88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990360" y="1282320"/>
            <a:ext cx="8178840" cy="119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518112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990360" y="43884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518112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990360" y="1282320"/>
            <a:ext cx="8178840" cy="119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75588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52140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99036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75588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652140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990360" y="3924000"/>
            <a:ext cx="8178840" cy="88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990360" y="1282320"/>
            <a:ext cx="8178840" cy="119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18112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990360" y="43884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518112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75588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52140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99036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75588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52140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990360" y="3924000"/>
            <a:ext cx="8178840" cy="88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990360" y="1282320"/>
            <a:ext cx="8178840" cy="119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8112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18112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990360" y="43884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518112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75588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52140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99036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75588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52140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990360" y="3924000"/>
            <a:ext cx="8178840" cy="88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990360" y="1282320"/>
            <a:ext cx="8178840" cy="119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518112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990360" y="43884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518112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75588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52140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99036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75588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52140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990360" y="3924000"/>
            <a:ext cx="8178840" cy="88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990360" y="3924000"/>
            <a:ext cx="817884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27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90720" y="2158920"/>
            <a:ext cx="393696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 fontScale="77000"/>
          </a:bodyPr>
          <a:p>
            <a:pPr marL="462960" indent="-29664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27200" indent="-29700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91080" indent="-29664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3" marL="1265040" indent="-29664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4" marL="1529280" indent="-29700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5" marL="1529280" indent="-29700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6" marL="1529280" indent="-29700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90000"/>
          </a:bodyPr>
          <a:p>
            <a:pPr marL="541080" indent="-34668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849960" indent="-34704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1158480" indent="-34668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3" marL="1478520" indent="-34668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4" marL="1787400" indent="-34704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5" marL="1787400" indent="-34704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6" marL="1787400" indent="-34704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070680" y="2158920"/>
            <a:ext cx="309888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 fontScale="66000"/>
          </a:bodyPr>
          <a:p>
            <a:pPr marL="396720" indent="-25416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623160" indent="-25452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849600" indent="-25416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3" marL="1084320" indent="-25416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4" marL="1310760" indent="-25452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5" marL="1310760" indent="-25452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6" marL="1310760" indent="-25452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5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990720" y="2158920"/>
            <a:ext cx="393696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 fontScale="77000"/>
          </a:bodyPr>
          <a:p>
            <a:pPr marL="462960" indent="-29664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27200" indent="-29700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91080" indent="-29664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3" marL="1265040" indent="-29664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4" marL="1529280" indent="-29700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5" marL="1529280" indent="-29700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6" marL="1529280" indent="-29700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 fontScale="91000"/>
          </a:bodyPr>
          <a:p>
            <a:pPr marL="600480" indent="-403920"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912960" indent="-404280"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24720" indent="-403920"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548360" indent="-403920"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860480" indent="-404280"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860480" indent="-404280"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860480" indent="-404280"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990360" y="990360"/>
            <a:ext cx="8178840" cy="5638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 fontScale="89000"/>
          </a:bodyPr>
          <a:p>
            <a:pPr marL="587520" indent="-395280">
              <a:spcBef>
                <a:spcPts val="36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892800" indent="-395640">
              <a:spcBef>
                <a:spcPts val="36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197720" indent="-395280">
              <a:spcBef>
                <a:spcPts val="36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514520" indent="-395280">
              <a:spcBef>
                <a:spcPts val="36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819800" indent="-395640">
              <a:spcBef>
                <a:spcPts val="36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819800" indent="-395640">
              <a:spcBef>
                <a:spcPts val="36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819800" indent="-395640">
              <a:spcBef>
                <a:spcPts val="36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5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90360" y="5753160"/>
            <a:ext cx="8178840" cy="1333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90360" y="5753160"/>
            <a:ext cx="8178840" cy="1333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5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body"/>
          </p:nvPr>
        </p:nvSpPr>
        <p:spPr>
          <a:xfrm>
            <a:off x="495000" y="3746160"/>
            <a:ext cx="458460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3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title"/>
          </p:nvPr>
        </p:nvSpPr>
        <p:spPr>
          <a:xfrm>
            <a:off x="495000" y="1104840"/>
            <a:ext cx="4584600" cy="2578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95000" y="3746160"/>
            <a:ext cx="458460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3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title"/>
          </p:nvPr>
        </p:nvSpPr>
        <p:spPr>
          <a:xfrm>
            <a:off x="495000" y="1104840"/>
            <a:ext cx="4584600" cy="2578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5" name="" descr=""/>
          <p:cNvPicPr/>
          <p:nvPr/>
        </p:nvPicPr>
        <p:blipFill>
          <a:blip r:embed="rId1"/>
          <a:stretch/>
        </p:blipFill>
        <p:spPr>
          <a:xfrm>
            <a:off x="2438280" y="11160"/>
            <a:ext cx="5283360" cy="7596000"/>
          </a:xfrm>
          <a:prstGeom prst="rect">
            <a:avLst/>
          </a:prstGeom>
          <a:ln w="0">
            <a:noFill/>
          </a:ln>
        </p:spPr>
      </p:pic>
      <p:sp>
        <p:nvSpPr>
          <p:cNvPr id="526" name="PlaceHolder 1"/>
          <p:cNvSpPr>
            <a:spLocks noGrp="1"/>
          </p:cNvSpPr>
          <p:nvPr>
            <p:ph/>
          </p:nvPr>
        </p:nvSpPr>
        <p:spPr>
          <a:xfrm>
            <a:off x="8876880" y="7061040"/>
            <a:ext cx="1257480" cy="508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© 2006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ademic Press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7" name="" descr=""/>
          <p:cNvPicPr/>
          <p:nvPr/>
        </p:nvPicPr>
        <p:blipFill>
          <a:blip r:embed="rId1"/>
          <a:stretch/>
        </p:blipFill>
        <p:spPr>
          <a:xfrm>
            <a:off x="-539640" y="1650960"/>
            <a:ext cx="11226600" cy="4305240"/>
          </a:xfrm>
          <a:prstGeom prst="rect">
            <a:avLst/>
          </a:prstGeom>
          <a:ln w="0">
            <a:noFill/>
          </a:ln>
        </p:spPr>
      </p:pic>
      <p:sp>
        <p:nvSpPr>
          <p:cNvPr id="528" name="PlaceHolder 1"/>
          <p:cNvSpPr>
            <a:spLocks noGrp="1"/>
          </p:cNvSpPr>
          <p:nvPr>
            <p:ph/>
          </p:nvPr>
        </p:nvSpPr>
        <p:spPr>
          <a:xfrm>
            <a:off x="8876880" y="7061040"/>
            <a:ext cx="1257480" cy="508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© 2006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ademic Press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9" name="" descr=""/>
          <p:cNvPicPr/>
          <p:nvPr/>
        </p:nvPicPr>
        <p:blipFill>
          <a:blip r:embed="rId1"/>
          <a:stretch/>
        </p:blipFill>
        <p:spPr>
          <a:xfrm>
            <a:off x="117360" y="927000"/>
            <a:ext cx="9923400" cy="5753160"/>
          </a:xfrm>
          <a:prstGeom prst="rect">
            <a:avLst/>
          </a:prstGeom>
          <a:ln w="0">
            <a:noFill/>
          </a:ln>
        </p:spPr>
      </p:pic>
      <p:sp>
        <p:nvSpPr>
          <p:cNvPr id="530" name="PlaceHolder 1"/>
          <p:cNvSpPr>
            <a:spLocks noGrp="1"/>
          </p:cNvSpPr>
          <p:nvPr>
            <p:ph/>
          </p:nvPr>
        </p:nvSpPr>
        <p:spPr>
          <a:xfrm>
            <a:off x="8876880" y="7061040"/>
            <a:ext cx="1257480" cy="508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© 2006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ademic Press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1" name="" descr=""/>
          <p:cNvPicPr/>
          <p:nvPr/>
        </p:nvPicPr>
        <p:blipFill>
          <a:blip r:embed="rId1"/>
          <a:stretch/>
        </p:blipFill>
        <p:spPr>
          <a:xfrm>
            <a:off x="31680" y="657360"/>
            <a:ext cx="10071000" cy="6302160"/>
          </a:xfrm>
          <a:prstGeom prst="rect">
            <a:avLst/>
          </a:prstGeom>
          <a:ln w="0">
            <a:noFill/>
          </a:ln>
        </p:spPr>
      </p:pic>
      <p:sp>
        <p:nvSpPr>
          <p:cNvPr id="532" name="PlaceHolder 1"/>
          <p:cNvSpPr>
            <a:spLocks noGrp="1"/>
          </p:cNvSpPr>
          <p:nvPr>
            <p:ph/>
          </p:nvPr>
        </p:nvSpPr>
        <p:spPr>
          <a:xfrm>
            <a:off x="8876880" y="7061040"/>
            <a:ext cx="1257480" cy="508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© 2006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ademic Press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" descr=""/>
          <p:cNvPicPr/>
          <p:nvPr/>
        </p:nvPicPr>
        <p:blipFill>
          <a:blip r:embed="rId1"/>
          <a:stretch/>
        </p:blipFill>
        <p:spPr>
          <a:xfrm>
            <a:off x="38160" y="1117440"/>
            <a:ext cx="10071000" cy="5373720"/>
          </a:xfrm>
          <a:prstGeom prst="rect">
            <a:avLst/>
          </a:prstGeom>
          <a:ln w="0">
            <a:noFill/>
          </a:ln>
        </p:spPr>
      </p:pic>
      <p:sp>
        <p:nvSpPr>
          <p:cNvPr id="534" name="PlaceHolder 1"/>
          <p:cNvSpPr>
            <a:spLocks noGrp="1"/>
          </p:cNvSpPr>
          <p:nvPr>
            <p:ph/>
          </p:nvPr>
        </p:nvSpPr>
        <p:spPr>
          <a:xfrm>
            <a:off x="8876880" y="7061040"/>
            <a:ext cx="1257480" cy="508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© 2006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ademic Press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5" name="" descr=""/>
          <p:cNvPicPr/>
          <p:nvPr/>
        </p:nvPicPr>
        <p:blipFill>
          <a:blip r:embed="rId1"/>
          <a:stretch/>
        </p:blipFill>
        <p:spPr>
          <a:xfrm>
            <a:off x="650880" y="536400"/>
            <a:ext cx="8852040" cy="6532560"/>
          </a:xfrm>
          <a:prstGeom prst="rect">
            <a:avLst/>
          </a:prstGeom>
          <a:ln w="0">
            <a:noFill/>
          </a:ln>
        </p:spPr>
      </p:pic>
      <p:sp>
        <p:nvSpPr>
          <p:cNvPr id="536" name="PlaceHolder 1"/>
          <p:cNvSpPr>
            <a:spLocks noGrp="1"/>
          </p:cNvSpPr>
          <p:nvPr>
            <p:ph/>
          </p:nvPr>
        </p:nvSpPr>
        <p:spPr>
          <a:xfrm>
            <a:off x="8876880" y="7061040"/>
            <a:ext cx="1257480" cy="508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© 2006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ademic Press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7" name="" descr=""/>
          <p:cNvPicPr/>
          <p:nvPr/>
        </p:nvPicPr>
        <p:blipFill>
          <a:blip r:embed="rId1"/>
          <a:stretch/>
        </p:blipFill>
        <p:spPr>
          <a:xfrm>
            <a:off x="1104840" y="112680"/>
            <a:ext cx="7950240" cy="7380360"/>
          </a:xfrm>
          <a:prstGeom prst="rect">
            <a:avLst/>
          </a:prstGeom>
          <a:ln w="0">
            <a:noFill/>
          </a:ln>
        </p:spPr>
      </p:pic>
      <p:sp>
        <p:nvSpPr>
          <p:cNvPr id="538" name="PlaceHolder 1"/>
          <p:cNvSpPr>
            <a:spLocks noGrp="1"/>
          </p:cNvSpPr>
          <p:nvPr>
            <p:ph/>
          </p:nvPr>
        </p:nvSpPr>
        <p:spPr>
          <a:xfrm>
            <a:off x="8876880" y="7061040"/>
            <a:ext cx="1257480" cy="508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© 2006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ademic Press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9" name="" descr=""/>
          <p:cNvPicPr/>
          <p:nvPr/>
        </p:nvPicPr>
        <p:blipFill>
          <a:blip r:embed="rId1"/>
          <a:stretch/>
        </p:blipFill>
        <p:spPr>
          <a:xfrm>
            <a:off x="101520" y="1332000"/>
            <a:ext cx="9956880" cy="4941720"/>
          </a:xfrm>
          <a:prstGeom prst="rect">
            <a:avLst/>
          </a:prstGeom>
          <a:ln w="0">
            <a:noFill/>
          </a:ln>
        </p:spPr>
      </p:pic>
      <p:sp>
        <p:nvSpPr>
          <p:cNvPr id="540" name="PlaceHolder 1"/>
          <p:cNvSpPr>
            <a:spLocks noGrp="1"/>
          </p:cNvSpPr>
          <p:nvPr>
            <p:ph/>
          </p:nvPr>
        </p:nvSpPr>
        <p:spPr>
          <a:xfrm>
            <a:off x="8876880" y="7061040"/>
            <a:ext cx="1257480" cy="508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© 2006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ademic Press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1" name="" descr=""/>
          <p:cNvPicPr/>
          <p:nvPr/>
        </p:nvPicPr>
        <p:blipFill>
          <a:blip r:embed="rId1"/>
          <a:stretch/>
        </p:blipFill>
        <p:spPr>
          <a:xfrm>
            <a:off x="781200" y="368280"/>
            <a:ext cx="8800920" cy="6888240"/>
          </a:xfrm>
          <a:prstGeom prst="rect">
            <a:avLst/>
          </a:prstGeom>
          <a:ln w="0">
            <a:noFill/>
          </a:ln>
        </p:spPr>
      </p:pic>
      <p:sp>
        <p:nvSpPr>
          <p:cNvPr id="542" name="PlaceHolder 1"/>
          <p:cNvSpPr>
            <a:spLocks noGrp="1"/>
          </p:cNvSpPr>
          <p:nvPr>
            <p:ph/>
          </p:nvPr>
        </p:nvSpPr>
        <p:spPr>
          <a:xfrm>
            <a:off x="8876880" y="7061040"/>
            <a:ext cx="1257480" cy="508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© 2006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ademic Press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