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684360" y="165240"/>
            <a:ext cx="8777160" cy="72896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36440" y="787320"/>
            <a:ext cx="9874440" cy="60451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6320" y="1562040"/>
            <a:ext cx="9994680" cy="44848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048120" y="23760"/>
            <a:ext cx="4064040" cy="75708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01600" y="1231920"/>
            <a:ext cx="9755280" cy="5143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82440" y="696960"/>
            <a:ext cx="9969480" cy="62118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8760" y="2374920"/>
            <a:ext cx="9817200" cy="287172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90480" y="455760"/>
            <a:ext cx="8764560" cy="669276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2462040" y="69840"/>
            <a:ext cx="52340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7080" y="190440"/>
            <a:ext cx="9905760" cy="6769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841400" y="63360"/>
            <a:ext cx="6477120" cy="748044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828800" y="100080"/>
            <a:ext cx="6489720" cy="74055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552760" y="-25560"/>
            <a:ext cx="5054400" cy="765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88920" y="469800"/>
            <a:ext cx="9969480" cy="66834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46160" y="177840"/>
            <a:ext cx="9855000" cy="7254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2260440" y="81000"/>
            <a:ext cx="5626440" cy="74563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057400" y="95400"/>
            <a:ext cx="6045120" cy="740412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828800" y="-128520"/>
            <a:ext cx="6502320" cy="753408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19160" y="534960"/>
            <a:ext cx="9907560" cy="65530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590400" y="590400"/>
            <a:ext cx="8967960" cy="641376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2832120" y="108000"/>
            <a:ext cx="4484520" cy="73915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73080" y="635040"/>
            <a:ext cx="10001160" cy="63500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3360" y="876240"/>
            <a:ext cx="10020600" cy="58564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07960" y="181080"/>
            <a:ext cx="9142560" cy="725652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96880" y="311040"/>
            <a:ext cx="8955000" cy="6972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507960" y="101520"/>
            <a:ext cx="9147240" cy="68835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36560" y="61920"/>
            <a:ext cx="8686800" cy="74818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06440" y="330120"/>
            <a:ext cx="9335880" cy="69595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946240" y="47520"/>
            <a:ext cx="4254840" cy="752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