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5410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4996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584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47852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6000"/>
          </a:bodyPr>
          <a:p>
            <a:pPr marL="3967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1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4960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843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1296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2472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4836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9000"/>
          </a:bodyPr>
          <a:p>
            <a:pPr marL="587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92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977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14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2374920" y="120600"/>
            <a:ext cx="5411880" cy="736596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71360" y="696960"/>
            <a:ext cx="9804600" cy="621180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755800" y="50760"/>
            <a:ext cx="4637160" cy="75186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