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8160" y="901800"/>
            <a:ext cx="10071000" cy="58039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231920" y="111240"/>
            <a:ext cx="7683480" cy="73962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19040" y="142920"/>
            <a:ext cx="9309240" cy="73198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2600" y="1598760"/>
            <a:ext cx="10134720" cy="44211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540160" y="34920"/>
            <a:ext cx="5079960" cy="75358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500200" y="36360"/>
            <a:ext cx="5158080" cy="75456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282680" y="66600"/>
            <a:ext cx="7594560" cy="7472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58760" y="1077840"/>
            <a:ext cx="10794960" cy="54500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739880" y="127080"/>
            <a:ext cx="6667560" cy="7353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