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22360" y="119160"/>
            <a:ext cx="7302600" cy="73674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162240" y="82440"/>
            <a:ext cx="3824280" cy="7442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549440" y="74520"/>
            <a:ext cx="7048440" cy="7456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806560" y="25560"/>
            <a:ext cx="4546800" cy="7569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240" y="1523880"/>
            <a:ext cx="10098000" cy="4572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76040" y="647640"/>
            <a:ext cx="9806040" cy="63118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235240" y="38160"/>
            <a:ext cx="5692680" cy="7543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587600" y="6480"/>
            <a:ext cx="6986520" cy="7594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68560" y="38160"/>
            <a:ext cx="7804080" cy="7543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