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514600" y="66600"/>
            <a:ext cx="5118120" cy="748512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2639880" y="25560"/>
            <a:ext cx="4880160" cy="755640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39680" y="519120"/>
            <a:ext cx="9867960" cy="658332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768240" y="582480"/>
            <a:ext cx="8610840" cy="64548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625760" y="47520"/>
            <a:ext cx="6908760" cy="75106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727280" y="61920"/>
            <a:ext cx="6692760" cy="74944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74760" y="25560"/>
            <a:ext cx="9397800" cy="70387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9080" y="990720"/>
            <a:ext cx="10109160" cy="56401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55440" y="1168560"/>
            <a:ext cx="10047240" cy="52704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